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4CF-6D86-470A-A774-6FFEC062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45E-6E4E-49BC-AD26-B3144E5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C1E-359F-4BB0-AFFD-5D22FDEC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4AF-2767-43CB-9351-C5D86FDE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CAB-582F-4D99-8361-83B24D2D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D5DD-BB91-4921-9810-33EE6C17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7FAE-4813-4DF6-A5A6-558254F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AD8-FD27-4A6A-AD50-E6D48FD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04C6-1FDB-4555-94B8-8B5EA40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DC1-FE89-4A98-A6CC-8905E37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783-8A14-4E9B-B44F-12C08A6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4D9-B406-4ED1-8D3B-FA455B6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E974-BCCE-499E-913D-28B93B5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981-1064-445B-9317-BD98D3D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39F9-72D6-4153-A82C-E850908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7CA-B79D-462A-A89F-8FD4CFEC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44D4-132C-4D62-8934-4B269CD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9F0-4749-43B8-8333-D7C23860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DB2-BB07-4C78-B180-00452EE6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1D9-545E-45AB-BB44-00D3EFC3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9EC-9804-4815-A53D-138AA846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3BC-6468-4B12-A6F1-F14F6A8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D11-FF9A-4D49-814D-3229796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27C-A685-4F2E-9E19-CA09C4E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3DA-BD81-4476-8C80-8E73A358D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3D0D-1DF4-4A0A-BB75-3778F3944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779480" y="1225440"/>
            <a:ext cx="5870520" cy="25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85600" y="5000760"/>
            <a:ext cx="57862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1 «А»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БОУ СОШ №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ODLOZhKA-veselaya-muzyka-dlya-fona(muzofon.com).mp3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66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5"/>
          <p:cNvPicPr/>
          <p:nvPr/>
        </p:nvPicPr>
        <p:blipFill>
          <a:blip r:embed="rId2"/>
          <a:srcRect l="2575" t="0" r="772" b="0"/>
          <a:stretch/>
        </p:blipFill>
        <p:spPr>
          <a:xfrm>
            <a:off x="250920" y="1268280"/>
            <a:ext cx="8555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QWERTY\Documents\proschai_bucvar.jpg"/>
          <p:cNvPicPr/>
          <p:nvPr/>
        </p:nvPicPr>
        <p:blipFill>
          <a:blip r:embed="rId2"/>
          <a:stretch/>
        </p:blipFill>
        <p:spPr>
          <a:xfrm>
            <a:off x="1258920" y="1557360"/>
            <a:ext cx="655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Музыкальные инновации для развития ребенка (Страница 1693) MP3SORT.BIZ"/>
          <p:cNvPicPr/>
          <p:nvPr/>
        </p:nvPicPr>
        <p:blipFill>
          <a:blip r:embed="rId2"/>
          <a:stretch/>
        </p:blipFill>
        <p:spPr>
          <a:xfrm>
            <a:off x="2411280" y="1197000"/>
            <a:ext cx="3940200" cy="5388120"/>
          </a:xfrm>
          <a:prstGeom prst="rect">
            <a:avLst/>
          </a:prstGeom>
          <a:ln w="0">
            <a:noFill/>
          </a:ln>
        </p:spPr>
      </p:pic>
      <p:pic>
        <p:nvPicPr>
          <p:cNvPr id="87" name="na-vyhod-Buratino(muzofon.com).mp3" descr=""/>
          <p:cNvPicPr/>
          <p:nvPr/>
        </p:nvPicPr>
        <p:blipFill>
          <a:blip r:embed="rId3"/>
          <a:stretch/>
        </p:blipFill>
        <p:spPr>
          <a:xfrm>
            <a:off x="7164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655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019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1800" y="-31680"/>
            <a:ext cx="180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835280" y="2997360"/>
            <a:ext cx="59767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2195640" y="1197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А   У   П  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268360" y="206064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Ш  Щ  Е   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1" descr=""/>
          <p:cNvPicPr/>
          <p:nvPr/>
        </p:nvPicPr>
        <p:blipFill>
          <a:blip r:embed="rId2"/>
          <a:stretch/>
        </p:blipFill>
        <p:spPr>
          <a:xfrm>
            <a:off x="1755720" y="4267080"/>
            <a:ext cx="5845320" cy="14511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2" descr=""/>
          <p:cNvPicPr/>
          <p:nvPr/>
        </p:nvPicPr>
        <p:blipFill>
          <a:blip r:embed="rId3"/>
          <a:stretch/>
        </p:blipFill>
        <p:spPr>
          <a:xfrm>
            <a:off x="1895400" y="2998800"/>
            <a:ext cx="59263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706320" y="1468440"/>
            <a:ext cx="7486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774720" y="1504800"/>
            <a:ext cx="762624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1023840" y="1182600"/>
            <a:ext cx="71024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901880" y="1249200"/>
            <a:ext cx="585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914400"/>
            <a:ext cx="68518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2-tub-ru.yandex.net/i?id=d8b57d65dbd5e34b326e22d83c9412fe-59-144&amp;n=21"/>
          <p:cNvPicPr/>
          <p:nvPr/>
        </p:nvPicPr>
        <p:blipFill>
          <a:blip r:embed="rId2"/>
          <a:stretch/>
        </p:blipFill>
        <p:spPr>
          <a:xfrm>
            <a:off x="507960" y="1341360"/>
            <a:ext cx="3854520" cy="43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Фрагмент рисунка из сказки - горы холмы рисунки"/>
          <p:cNvPicPr/>
          <p:nvPr/>
        </p:nvPicPr>
        <p:blipFill>
          <a:blip r:embed="rId3"/>
          <a:stretch/>
        </p:blipFill>
        <p:spPr>
          <a:xfrm>
            <a:off x="5003640" y="1341360"/>
            <a:ext cx="2533680" cy="4867200"/>
          </a:xfrm>
          <a:prstGeom prst="rect">
            <a:avLst/>
          </a:prstGeom>
          <a:ln w="0">
            <a:noFill/>
          </a:ln>
        </p:spPr>
      </p:pic>
      <p:pic>
        <p:nvPicPr>
          <p:cNvPr id="108" name="4-Vyhod-Baby-Yagi(muzofon.com).mp3" descr=""/>
          <p:cNvPicPr/>
          <p:nvPr/>
        </p:nvPicPr>
        <p:blipFill>
          <a:blip r:embed="rId4"/>
          <a:stretch/>
        </p:blipFill>
        <p:spPr>
          <a:xfrm>
            <a:off x="4427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333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04:20Z</dcterms:created>
  <dc:creator>Comp</dc:creator>
  <dc:description/>
  <dc:language>en-US</dc:language>
  <cp:lastModifiedBy>QWERTY</cp:lastModifiedBy>
  <dcterms:modified xsi:type="dcterms:W3CDTF">2015-03-18T13:45:41Z</dcterms:modified>
  <cp:revision>12</cp:revision>
  <dc:subject/>
  <dc:title>Слайд 1</dc:title>
</cp:coreProperties>
</file>